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304-F5F4-488C-97C8-C8FE2741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97F-58AE-471B-84D0-7B2FD8F9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DEC-FE96-4F80-9BE5-D24712CA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6FE-4483-4B29-820F-CFFBF00E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DF70-724B-462D-AF3E-406E054D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CB7D-5A4A-49BD-8BDE-509679E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9F1B-939D-4C18-B23C-6A0C6636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6353-11E8-4A12-BD54-534DA76D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F4AC-D2D1-43AF-9E20-B3AC4AD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A3C-3E89-4344-932A-667F638B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614F-C0A3-4EB3-AF2B-3DE2CC9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DD6-223A-44FD-92FD-D12A8EE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EC75-BA2C-43AA-B048-3BB259C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AE69-D989-4D93-94E2-074C2F6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9CEE-5EB8-41BB-B187-0AC8DFC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0DA0-FE0D-4659-B32B-FDB1944D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045B-B8F6-4E43-A5B4-6D53D05B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AD7A-84C6-489E-9A4F-ABE4EA4F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7E8D-8B83-4750-91E3-AE50ACC2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85A8-CBB1-4F84-A5C6-4B65C4C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028A-D805-4E78-9384-BB34ADB6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BBA0-368A-4B84-82A6-E0F06EFE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A91-0E18-4717-8410-923E0B2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F2CE-CB69-46D0-94E5-592B999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0C72-C41A-446D-8D52-0F7A069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D7F2-BB97-4856-BECD-1598209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71B2-DBB0-4A73-ABEC-08C046F7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554DC-AAA7-47C6-82BC-25E1FA04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42DB-1E28-45BA-9067-0F37651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78E5-4402-43E4-9F28-4FF29578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A89F-A04C-445B-B303-18EF65A4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7A41-5A36-4E20-A559-BFE83C1D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2CA3-9717-47CD-9C60-59B2F5B4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787-8DDA-47FA-AE7C-120B8B3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A5EA-B38C-4430-AA5B-96B9549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2BB1-2C76-434F-9B57-73D2E12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5DEC-A23C-46FC-9E71-3D94484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C53F-6ABF-4F34-917A-CDE0C914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52B8-A0F4-40BA-836B-B08F7A7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429E-E6C6-4BD1-945E-C873F674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1CC3-B8E6-4935-A4C9-C0539D48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BCAD-827B-4810-840D-8FBBD701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2175-DF64-44E6-B817-9F74619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3556-76F4-4AF9-9233-9463BA5B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9DA-8AF9-4486-AF49-D657B5B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A48C7-1CA9-46F5-B921-D6ED4A0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DB212-1B84-49B4-805F-975249F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1131-34D1-45B6-9497-4283A9FA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44C88-A211-4D44-8189-E8DE749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1637-A03D-4CEB-8719-EF51AC20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F1D6-C0A1-4D10-8F83-30CB0C7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FD42-C379-4D7F-A126-49A9CFCD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AB6E-01DF-40D1-A767-F0734DC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FA86-DA11-4F8F-ABB9-D8EB5C13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380F-3E4D-4312-BEF2-F1654F8B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281-EDDA-44AB-AD08-6904C5F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A009-A0F4-4C09-BB99-451A5F3E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83B-4DEB-49C0-9F93-8ED7EAA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869-F59C-4DC7-9206-FFB56DE2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9ED-A8A6-414F-8B9B-7F62874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6E07-1BF0-4879-A723-861B0DF5978F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372A-2F20-4032-A9BF-21402394DE03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FB1-E872-411D-A4CB-92701F336EB6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A1A-2D5D-4AAE-A444-954795D8EB3E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30D1-8C97-478F-B916-1C26ABE6A518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vNzTYzjLgK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0920" y="806040"/>
            <a:ext cx="453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92934"/>
                </a:solidFill>
                <a:latin typeface="Arial"/>
              </a:rPr>
              <a:t>4.2 QUANTITATIVE PHYSICAL PROPERTIES</a:t>
            </a:r>
            <a:br>
              <a:rPr sz="4000"/>
            </a:b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http://www.unique-designer-jewelry.com/images2/gmr17.jpg"/>
          <p:cNvPicPr/>
          <p:nvPr/>
        </p:nvPicPr>
        <p:blipFill>
          <a:blip r:embed="rId1"/>
          <a:stretch/>
        </p:blipFill>
        <p:spPr>
          <a:xfrm>
            <a:off x="5508720" y="1844640"/>
            <a:ext cx="328608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rcRect l="0" t="0" r="0" b="10949"/>
          <a:stretch/>
        </p:blipFill>
        <p:spPr>
          <a:xfrm>
            <a:off x="2023920" y="2689200"/>
            <a:ext cx="4953240" cy="4168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24000" y="476280"/>
            <a:ext cx="8424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1" lang="en-CA" sz="2400" spc="-1" strike="noStrike">
                <a:solidFill>
                  <a:srgbClr val="d2533c"/>
                </a:solidFill>
                <a:latin typeface="Arial"/>
              </a:rPr>
              <a:t>Viscosity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SzPct val="85000"/>
              <a:buFont typeface="Arial"/>
              <a:buChar char="•"/>
              <a:tabLst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resistance to flo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SzPct val="85000"/>
              <a:buFont typeface="Arial"/>
              <a:buChar char="•"/>
              <a:tabLst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measured as time it takes to flow (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imation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1" lang="en-CA" sz="2400" spc="-1" strike="noStrike">
                <a:solidFill>
                  <a:srgbClr val="d2533c"/>
                </a:solidFill>
                <a:latin typeface="Arial"/>
              </a:rPr>
              <a:t>Melting point and boiling point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SzPct val="85000"/>
              <a:buFont typeface="Arial"/>
              <a:buChar char="•"/>
              <a:tabLst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opy the figure 4.8 from your text, define </a:t>
            </a:r>
            <a:r>
              <a:rPr b="1" i="1" lang="en-CA" sz="2400" spc="-1" strike="noStrike">
                <a:solidFill>
                  <a:srgbClr val="292934"/>
                </a:solidFill>
                <a:latin typeface="Arial"/>
              </a:rPr>
              <a:t>melting point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i="1" lang="en-CA" sz="2400" spc="-1" strike="noStrike">
                <a:solidFill>
                  <a:srgbClr val="292934"/>
                </a:solidFill>
                <a:latin typeface="Arial"/>
              </a:rPr>
              <a:t> boiling poi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360" y="549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33c"/>
                </a:solidFill>
                <a:latin typeface="Arial"/>
              </a:rPr>
              <a:t>Solubil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measure of the ability of a substance to dissolve in another substance.  A measure of HOW MUCH can dissolve into a given solu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8f67"/>
                </a:solidFill>
                <a:latin typeface="Arial"/>
              </a:rPr>
              <a:t>Solu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bstance that dissolves in the solution (sugar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54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8f67"/>
                </a:solidFill>
                <a:latin typeface="Arial"/>
              </a:rPr>
              <a:t>Solv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bstance that dissolves the solute (water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Water = universal solven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mo (sugar and copper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4920" y="907560"/>
            <a:ext cx="4762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d2533c"/>
                </a:solidFill>
                <a:latin typeface="Arial"/>
              </a:rPr>
              <a:t>Hardness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the ability of a substance to be scratch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easured on the mohs scale, between 1 and 10 (diamonds are 10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rcRect l="69619" t="0" r="0" b="0"/>
          <a:stretch/>
        </p:blipFill>
        <p:spPr>
          <a:xfrm>
            <a:off x="5435640" y="1557360"/>
            <a:ext cx="3073320" cy="5056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971640" y="3951360"/>
            <a:ext cx="396540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7093080" y="907920"/>
            <a:ext cx="2020680" cy="2021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925640" y="2151000"/>
            <a:ext cx="6996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ss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f a material within a certain volume.  The density of water is 1g/ml (or 1g/cm</a:t>
            </a:r>
            <a:r>
              <a:rPr b="0" lang="en-US" sz="2400" spc="-1" strike="noStrike" baseline="30000">
                <a:solidFill>
                  <a:srgbClr val="29293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most dense material (greater number) sink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Density is calculated as follow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nsity =   </a:t>
            </a: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ass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      or  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</a:t>
            </a:r>
            <a:r>
              <a:rPr b="1" i="1" lang="en-US" sz="2400" spc="-1" strike="noStrike">
                <a:solidFill>
                  <a:srgbClr val="292934"/>
                </a:solidFill>
                <a:latin typeface="Arial"/>
              </a:rPr>
              <a:t> =  </a:t>
            </a:r>
            <a:r>
              <a:rPr b="1" i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volume                    </a:t>
            </a:r>
            <a:r>
              <a:rPr b="1" i="1" lang="en-US" sz="2400" spc="-1" strike="noStrike">
                <a:solidFill>
                  <a:srgbClr val="292934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79640" y="4941720"/>
            <a:ext cx="6985080" cy="1079640"/>
          </a:xfrm>
          <a:prstGeom prst="rect">
            <a:avLst/>
          </a:prstGeom>
          <a:noFill/>
          <a:ln w="44280">
            <a:solidFill>
              <a:srgbClr val="808d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2"/>
          <a:stretch/>
        </p:blipFill>
        <p:spPr>
          <a:xfrm>
            <a:off x="-17640" y="2349360"/>
            <a:ext cx="1905120" cy="43434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539640" y="62064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Conductivit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ability of a substance to conduct electricity (i.e. copper in electrical wires) or to conduct he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7:18:31Z</dcterms:created>
  <dc:creator>Daniel Secours</dc:creator>
  <dc:description/>
  <dc:language>en-US</dc:language>
  <cp:lastModifiedBy>Katie</cp:lastModifiedBy>
  <dcterms:modified xsi:type="dcterms:W3CDTF">2014-10-01T19:29:29Z</dcterms:modified>
  <cp:revision>50</cp:revision>
  <dc:subject/>
  <dc:title>La durabilité des écosystèmes  SNC 1DF</dc:title>
</cp:coreProperties>
</file>